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59D-573A-4F54-89EC-0665A0C2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798-5861-4004-8C3C-B439790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799-B13B-4F6A-A358-666B7464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7D4-883F-4E0E-A718-07A8891F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A1C-848B-461D-B738-D8A302D3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95A-CFF2-4449-A23F-2FD7E7D8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B5B-B71F-4EAC-9392-30E70F3A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449-1C91-42AC-97C5-4B6A3240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F67-7C61-4F5B-B127-87CD4F46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20F-433C-458C-9A7D-AED1C3F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B8A-FCDE-4A3B-A92F-63C921F4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534-E3F9-416A-9C89-8295D582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33CD6-3938-4C0E-86B3-A3F7B86300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SW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3836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Biagio Espo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of Botswana is Gabo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tion of Botswana is in souther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 has river like the Okavango river, Molopo river, Botletle river, Nosob river, and Chob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 is near two oceans,  the south Atlantic ocean, and the south Pacific oce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816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Botswana has a subtropical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 7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im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guage spoken in Botswana is English, Setswana, Kalanga, and Sekgal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's economy is develo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16200" y="2743200"/>
            <a:ext cx="5511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's type of government is republic, parliamentary democ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s of natural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a 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foplea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raveldo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CS_user</dc:creator>
  <dc:description/>
  <dc:language>en-US</dc:language>
  <cp:lastModifiedBy>LCS_user</cp:lastModifiedBy>
  <dcterms:modified xsi:type="dcterms:W3CDTF">2008-10-27T12:42:05Z</dcterms:modified>
  <cp:revision>1</cp:revision>
  <dc:subject/>
  <dc:title>Slide 1</dc:title>
</cp:coreProperties>
</file>